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D353-7EB1-4AAC-9881-4A08F2E4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small-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csd-ws.mcbarons.manheimcentral.org/~williamst/Frog/Vill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mm.edu/imagepages/8834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mm.edu/patiented/articles/large_intestine_00032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t Wim Delvo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digestive-tract-153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picture-of-the-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Duode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hadygroveadventisthospital.com/adam/Surgery%20and%20Procedures/13/10018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87A-8DFB-4DFD-941E-82268383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7C9-CCC6-44E5-BF42-AE0DD73E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4CB-B34F-47C2-972B-414D4C7A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43F-E9AA-4884-B123-43A627D7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10D-2006-4102-8AC5-5E67EEEB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A00-951C-4C90-B70C-FA14212C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999-8253-4EBC-B777-D7371340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4CC-CAED-4414-B382-4CE88955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6D6-2121-4351-BCDF-B482B0A4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1D3-84E2-437E-A9E4-CCD5FFB6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BB1-FD5A-489E-8D2E-C3F249BC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936-1F5F-4CC3-87DF-9C980C90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6B26-38D4-4E77-B479-B39E23295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7xKYNz9AS0" TargetMode="External"/><Relationship Id="rId2" Type="http://schemas.openxmlformats.org/officeDocument/2006/relationships/hyperlink" Target="http://highered.mcgraw-hill.com/sites/0072495855/student_view0/chapter26/animation__organs_of_digestion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0E9ITyRlh0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 &amp; 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(Small Intestin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15880" y="1981080"/>
            <a:ext cx="6310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7 metres in length (25 cm of which is duodenum), 2.5 cm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l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vil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surface area for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2328840"/>
            <a:ext cx="38098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 metres long, 5 cm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bacteria produces vitamins K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dig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Z7xKYNz9AS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&amp;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ighered.mcgraw-hill.com/sites/0072495855/student_view0/chapter26/animation__organs_of_digesti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19160" y="1981080"/>
            <a:ext cx="530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819000"/>
            <a:ext cx="7772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s of Food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e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hysical breakdown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ivary gla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mylase in saliva breaks down starch (chemical diges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n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rms bolus, pushes it back to 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ophag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ristalsis moves bolus d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h0E9ITyRlh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(Stoma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39720" y="1981080"/>
            <a:ext cx="606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(Stoma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stric ju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ydrochloric acid + enzymes (e.g., peps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otects lining of stomach from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y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artly digested food, water, and gastric juice that enters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(Duodenu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10040" y="1981080"/>
            <a:ext cx="2922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(Duodenu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duced in liver, stored in gall bladder): emulsifies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p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myl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yp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duced in pancreas): digest fat, starch,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lt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ptid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duced in duodenum): digest maltose, poly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7:00:14Z</dcterms:created>
  <dc:creator>rubina khan</dc:creator>
  <dc:description/>
  <dc:language>en-US</dc:language>
  <cp:lastModifiedBy>rubina khan</cp:lastModifiedBy>
  <dcterms:modified xsi:type="dcterms:W3CDTF">2012-11-22T17:39:34Z</dcterms:modified>
  <cp:revision>41</cp:revision>
  <dc:subject/>
  <dc:title>The Digestive System</dc:title>
</cp:coreProperties>
</file>